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5484-AF37-4907-BE0C-CEFE7F6EA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6DDC-76A6-4D7C-98B8-8DE3BDCB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6F2-6212-4F11-818E-2EA2F949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211-31D8-44B2-A7F7-DBC05B05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1E4-B7EE-47C9-BC1D-A05B9CEF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6F1-EAE7-42B8-B2F3-AFEFE10A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0F0-05CF-4E57-B057-EEC35C57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F8D-D667-40CF-90F6-46B5E895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9A0-3C13-4AC1-986F-7A0C8C58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9CB-225A-4E26-B52D-FDE735DD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B3F-45F1-4C05-887D-1943FE05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21A-1CAC-436C-AA8C-37068920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ECD-0998-4484-AFC5-8F3453C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1FC-BB3B-4293-8C05-7468A0B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428F-AB0D-4D0D-AEA2-6E977902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una Par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Bruna. Yo vivo en New York. Tengo 14 años. Estoy feliz y cansada. Amo música. Yo no tengo her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Hola Katy, si yo quiero comer hela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Hola, Bruna tú quieres comer helados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12-05T14:50:32Z</dcterms:modified>
  <cp:revision>102</cp:revision>
  <dc:subject/>
  <dc:title>Profile</dc:title>
</cp:coreProperties>
</file>